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95A-8AFD-4176-BE87-D9230686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E10-B859-4EDE-8C64-5B934046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59F-ACDE-4600-992B-C34ECCD6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BD7-99E6-43CB-823A-F9948226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54B-170E-46E2-86C2-773D8EBD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EC8-3F9F-4280-A045-E397C063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36C-1F4C-4E59-908C-BE3286F3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B31-9FAF-4820-8914-2EC29524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E84-0E41-40FE-90D7-D62A7BE5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C3D-E36D-435C-8D3A-C2CEFD05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321-51BB-452A-BFBB-B5EB91B5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11E-D4A9-40EE-8084-63CB3297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B378-1016-4C6A-8421-03C315905C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0880" y="34956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R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25146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Lea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60948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l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0880" y="159084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133720" y="45720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ese take in  W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ater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 and M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inerals 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rom the soil.  They also anchor the plant into the grou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133720" y="161928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the plant makes its food by the process of  P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hotosynthes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33720" y="2610000"/>
            <a:ext cx="4190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  R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eproduction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 takes place and seeds are m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133720" y="358452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transports food and water around the plant.  It also holds the leaves up to face the L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igh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791532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R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80880" y="693432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Lea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80880" y="50292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l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80880" y="60102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33720" y="487692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ese take in W………………………….. and M…………………………….. from the soil.  They also anchor the plant into the grou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2133720" y="603900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the plant makes its food by the process of  P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2133720" y="702936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  R………………………………………. takes place and seeds are m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133720" y="800424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transports food and water around the plant.  It also holds the leaves up to face the L…………………………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Łącznik prosty ze strzałką 18"/>
          <p:cNvCxnSpPr>
            <a:stCxn id="43" idx="3"/>
            <a:endCxn id="47" idx="1"/>
          </p:cNvCxnSpPr>
          <p:nvPr/>
        </p:nvCxnSpPr>
        <p:spPr>
          <a:xfrm>
            <a:off x="1676520" y="732600"/>
            <a:ext cx="457560" cy="20008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8" name="Łącznik prosty ze strzałką 20"/>
          <p:cNvCxnSpPr/>
          <p:nvPr/>
        </p:nvCxnSpPr>
        <p:spPr>
          <a:xfrm>
            <a:off x="1641960" y="2000160"/>
            <a:ext cx="500760" cy="18583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9" name="Łącznik prosty ze strzałką 22"/>
          <p:cNvCxnSpPr>
            <a:endCxn id="46" idx="1"/>
          </p:cNvCxnSpPr>
          <p:nvPr/>
        </p:nvCxnSpPr>
        <p:spPr>
          <a:xfrm flipV="1">
            <a:off x="1642680" y="1818360"/>
            <a:ext cx="491400" cy="10396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60" name="Łącznik prosty ze strzałką 24"/>
          <p:cNvCxnSpPr>
            <a:stCxn id="41" idx="3"/>
          </p:cNvCxnSpPr>
          <p:nvPr/>
        </p:nvCxnSpPr>
        <p:spPr>
          <a:xfrm flipV="1">
            <a:off x="1676520" y="785160"/>
            <a:ext cx="396000" cy="28339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1:22:13Z</dcterms:created>
  <dc:creator>Gemma Young</dc:creator>
  <dc:description/>
  <dc:language>en-US</dc:language>
  <cp:lastModifiedBy>oskar jaskiewicz</cp:lastModifiedBy>
  <dcterms:modified xsi:type="dcterms:W3CDTF">2014-08-20T06:35:57Z</dcterms:modified>
  <cp:revision>5</cp:revision>
  <dc:subject/>
  <dc:title>PowerPoint Presentation</dc:title>
</cp:coreProperties>
</file>